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CE3-9FA6-4F60-A7F3-F6C23BE5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676-1C25-4285-8DD5-07156EB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483-00D3-45F5-A15C-B8505195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FDA-2BEA-4BA8-901C-00CFA3C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D61-41F6-4152-822A-FB02B0E2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5EC6-7485-4322-840A-9317CF8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5CC-F15D-44C1-8022-32B49BB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242-0E44-4121-8E2C-CB2D0C3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BEA6-CDD5-458E-AE30-91C8814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D9A-04D8-4F72-B695-81FA885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D5F9-9F27-4B72-BBA0-77DA673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65F-ED52-4A72-A69A-7C0C5BF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A6E2-FA41-4C15-BC42-C4517A2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33EC-EE8E-42C2-8B46-6FBE38E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53D-75BF-4D69-8E2F-66CF632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03DE-92CF-4ED3-9D90-0F1F563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308C-41C6-4F7B-930B-2B8C62B1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A0976-A6CF-4744-8C10-688F22F4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64CD8-E797-4EC6-A516-0C9D8A1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D872D-E2BE-480B-AF90-05B8013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19166-787F-4AE6-A843-559006FE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0463E-D5CA-4100-AB5E-C7F978C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DC8-51BF-4714-8993-6874C7D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D57E9-81BF-4A91-8ABB-121F1DF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7960-B8A6-4A66-AB62-4E48701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49B5E-CBD0-4A9E-A4F9-A11B99B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25DB0-84A8-4AF8-8EE7-19DAE00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5AB73-9D83-4F29-A757-146F5D10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CC025-48DD-49F1-AFE7-07DBBF20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57CD8-4220-4318-BAC2-79D1366A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9D49-CD10-498B-A219-2196C70C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FA55B-5967-4822-BC95-D0771CD8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250C-775C-4066-86EF-C2FD0314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7FF-D55B-4FD9-B0B2-0CEBBF6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A66A-0981-472D-97FD-5FA3C247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0675-FBD9-4192-A839-2521378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D8EF-D871-42FD-A8A1-E6DF29D1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37D2-6F20-4982-8870-8F338881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AD8E-AC47-4AB7-BD11-BDEF22B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0D9A-C2C7-4BA4-95C6-8E601F8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FCCE-2223-4183-ACDF-694B653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40D0-681D-4E85-B1A6-5112E48D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752D-BF67-490E-A5EA-DE2079D0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885EF-4E77-44A0-AF8A-A3F3BC44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8D2-D86F-4339-A7F6-2177259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1E2B8-4D33-4C68-99B3-41241065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F2C50-CEB2-4973-B746-AF56B30E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68F7B-C53B-4961-8D4B-EA80965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EC30F-720D-4ACE-BCA0-59457F6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C8654-EF85-452D-8631-D51E630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FD4C1-BCFE-4F23-A1EE-70B43EE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87460-AB75-4ADC-ADAC-B03CA16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38B50-8610-4A7B-82E1-4FD7EA1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2254F-F655-4862-BB5D-28B0B05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DBA64-1FD4-4C6F-8BFF-1DDC293C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211-AD80-4688-B0C2-F6C6A1BA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AF342-3560-425D-B878-911FFE6B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AC0C4-66F1-4FD3-91CD-1573AB5B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C22F-F9BD-4DD2-AC30-569D483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61922-7D3B-47C7-BE26-E982598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B7326-1DD2-46A8-879E-83EAB76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4FC2C-FD23-4608-BFC5-B5A159D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BA152-D258-4DD3-B56D-B2AEF2D1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13D6B-CC41-4C54-871F-2D61E7A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D8D53-5B15-4A77-B862-223C4EE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4A579-6D41-47A7-82FC-D0FA1CD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74B-6A03-4C76-A05E-3DC9A06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41DA9-C843-48B9-AC27-C0CC00F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960F9-6013-4DD4-B33A-B91C5D62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7D99F-4B40-4FD7-95E6-53A5E3AA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F1B16-EE2F-47DB-BFB2-DA6662F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CFE0F-BDEC-4F5F-B6DB-4E804B2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69F2C-0BF8-42AE-B2AA-DE48EBB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ED4F8-C4E1-4AD8-8567-2612167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540B3-3F75-459C-A12D-5607E8B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08F9C-6A77-4A38-AD55-A0536980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398D2-148C-4B0A-B8B7-D7EF7E0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EE9-F7B6-4284-A4D8-3353A0EC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42234-C445-48E3-AAF3-F6153DE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8003E-A66F-4A43-9968-40C0618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00AFE-16B5-4B2F-89A2-704ACB0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C74B2-4213-4037-88A0-FB88A029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A9A9E-2DBE-49F9-8BB1-8BCB84F3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70F-5AFA-4348-B2AC-2F6D6DF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4655-82F4-4B1B-B549-D66E353A82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207-8E22-491C-953B-1575CE6487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577E-5C9B-41E1-B6D0-26237A1B1A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439-CA28-4517-95C1-C0177B402B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80D-6913-4F49-82E2-86BD190155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3BB2-500B-46C8-809C-A1602F3E99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68E-E340-47C6-AEEC-4FEC34F85A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2bd8"/>
                </a:solidFill>
                <a:latin typeface="Century Schoolbook"/>
              </a:rPr>
              <a:t>АМИНОКИСЛОТЫ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4829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кты, содержащие лиз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количество лизина содержат в себе следующие продукты: картофель, свинина, йогурт, соя, зародыши пшеницы, яичный белок, чечевица, орехи, рыба, мясо, молочные продук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астительных продуктах содержание лизина почти всегда ограничено, то есть даже малые количества лизина существенно повышают их пищевую ц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User\Desktop\валя\200px-Lysine.png"/>
          <p:cNvPicPr/>
          <p:nvPr/>
        </p:nvPicPr>
        <p:blipFill>
          <a:blip r:embed="rId1"/>
          <a:stretch/>
        </p:blipFill>
        <p:spPr>
          <a:xfrm>
            <a:off x="5500800" y="1071720"/>
            <a:ext cx="253980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71e5"/>
                </a:solidFill>
                <a:latin typeface="Century Schoolbook"/>
              </a:rPr>
              <a:t>АРГИНИН</a:t>
            </a:r>
            <a:br>
              <a:rPr sz="2700"/>
            </a:br>
            <a:endParaRPr b="0" lang="en-US" sz="49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74" name="Picture 2" descr="C:\Users\User\Desktop\валя\200px-L-arginine-3D-hztl.png"/>
          <p:cNvPicPr/>
          <p:nvPr/>
        </p:nvPicPr>
        <p:blipFill>
          <a:blip r:embed="rId1"/>
          <a:stretch/>
        </p:blipFill>
        <p:spPr>
          <a:xfrm>
            <a:off x="5214960" y="928800"/>
            <a:ext cx="3286080" cy="2466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User\Desktop\валя\200px-Arginine.png"/>
          <p:cNvPicPr/>
          <p:nvPr/>
        </p:nvPicPr>
        <p:blipFill>
          <a:blip r:embed="rId2"/>
          <a:stretch/>
        </p:blipFill>
        <p:spPr>
          <a:xfrm>
            <a:off x="785880" y="1071720"/>
            <a:ext cx="3071880" cy="40719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4286160" y="42861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, Arg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21840" y="535788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лярная масс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74,2 г/м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— условно-незаменимая аминокислота. У взрослого и здорового человека аргинин вырабатывается организмом в достаточном количестве. В то же время, у детей и подростков, у пожилых и больных людей уровень синтеза аргинина часто недостаточе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широко рекламируется как компонент БАД для бодибилдеров с целью улучшения питания мышц, и пожилых людей для улучшения эректильной функции. Так же массово применяется аргинин и в пищевых добавках, рекламируемых «в целях стимулирования иммунитет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Century Schoolbook"/>
              </a:rPr>
              <a:t>L-АРГИНИН ВСТРЕЧАЕТСЯ ВО МНОГИХ ПРОДУКТАХ ПИТАНИЯ, КАК ЖИВОТНОГО, ТАК И РАСТИТЕЛЬНОГО ПРОИСХОЖДЕНИЯ. В ТАБЛИЦЕ ПРИВЕДЕНЫ ДАННЫЕ ПО СОДЕРЖАНИЮ АРГИНИНА НА 100 ГРАММ ПРОДУКТА И УКАЗАНО СОДЕРЖАНИЕ БЕЛКА.</a:t>
            </a:r>
            <a:br>
              <a:rPr sz="2700"/>
            </a:br>
            <a:endParaRPr b="0" lang="en-US" sz="2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5688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одукт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           Белок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Аргинин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/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винина сыра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9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94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куриное филе 21,23 г 1436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8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филе лосос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42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21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риное яйцо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,57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20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5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ровье молоко,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,7 % жирност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28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119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едровы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69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1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цки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27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ыквенные семечк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0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535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шеничная мука г/п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70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4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4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курузная мука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9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45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ис нешлифован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94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0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чишный хлеб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2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98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4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орох суше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,5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18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,9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ргинин относится к разряду Аминокислот, которые вырабатываются в организме лишь при определённых условиях. При малейшей патологии организм не успевает справляться с производством Аргинина. И тогда его нужно принимать в виде лекарственных средств, или биологически активных доба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тский организм вообще не способен самостоятельно вырабатывать аргинин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дефиците Аргинина возникают такие заболевания: устойчивая гипертония, ослабление памяти, нервные и психические расстройства, ослабление иммунитета, сахарный диабет, злокачественные новообразования, функциональные расстройства половой системы вплоть до импотенции, заболевания внутренних органов, жировая инфильтрация печени, замедления роста и полового созревания, ожи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ГИСТИД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Петр\Desktop\Юля\презентация биохимия\гистидин\вид молекулы.png"/>
          <p:cNvPicPr/>
          <p:nvPr/>
        </p:nvPicPr>
        <p:blipFill>
          <a:blip r:embed="rId1"/>
          <a:stretch/>
        </p:blipFill>
        <p:spPr>
          <a:xfrm>
            <a:off x="755640" y="2637000"/>
            <a:ext cx="3016440" cy="310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:\Users\Петр\Desktop\Юля\презентация биохимия\гистидин\химическая формула.png"/>
          <p:cNvPicPr/>
          <p:nvPr/>
        </p:nvPicPr>
        <p:blipFill>
          <a:blip r:embed="rId2"/>
          <a:stretch/>
        </p:blipFill>
        <p:spPr>
          <a:xfrm>
            <a:off x="4788000" y="2349360"/>
            <a:ext cx="2755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7424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Century Schoolbook"/>
              </a:rPr>
              <a:t>ГИСТИДИ́Н (L-Α-АМИНО-Β-ИМИДАЗОЛИЛПРОПИОНОВАЯ КИСЛОТА) — ГЕТЕРОЦИКЛИЧЕСКАЯ АЛЬФА-АМИНОКИСЛОТ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, 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— АЛЬФА-АМИНОКИСЛОТА СО СЛАБЫМИ ОСНОВНЫМИ СВОЙСТВАМИ, ОБУСЛОВЛЕННЫМИ ПРИСУТСТВИЕМ В МОЛЕКУЛЕ ОСТАТКА ИМИДАЗОЛА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ОДЕРЖАНИЕ В ПРОДУКТАХ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ОМ БОГАТЫ ТАКИЕ ПРОДУКТЫ КАК ТУНЕЦ, ЛОСОСЬ, СВИНАЯ ВЫРЕЗКА, ГОВЯЖЬЕ ФИЛЕ, КУРИНЫЕ ГРУДКИ, СОЕВЫЕ БОБЫ, АРАХИС, ЧЕЧЕВИЦА. КРОМЕ ТОГО, ГИСТИДИН ВКЛЮЧАЕТСЯ В СОСТАВ МНОГИХ ВИТАМИННЫХ КОМПЛЕКСОВ И НЕКОТОРЫХ ДРУГИХ МЕДИКАМЕНТОВ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РОЛЬ В ОРГАНИЗМЕ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ВХОДИТ В СОСТАВ АКТИВНЫХ ЦЕНТРОВ МНОЖЕСТВА ФЕРМЕНТОВ, ЯВЛЯЕТСЯ ПРЕДШЕСТВЕННИКОМ В БИОСИНТЕЗЕ ГИСТАМИНА. ОДНА ИЗ «СУЩЕСТВЕННЫХ» АМИНОКИСЛОТ, СПОСОБСТВУЕТ РОСТУ И ВОССТАНОВЛЕНИЮ ТКАНЕЙ. В БОЛЬШОМ КОЛИЧЕСТВЕ СОДЕРЖИТСЯ В ГЕМОГЛОБИНЕ; ИСПОЛЬЗУЕТСЯ ПРИ ЛЕЧЕНИИ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РЕВМАТОИДНЫХ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АРТРИТОВ, АЛЛЕРГИЙ, ЯЗВ И АНЕМИИ. НЕДОСТАТОК ГИСТИДИНА МОЖЕТ ВЫЗВАТЬ ОСЛАБЛЕНИЕ СЛУХ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ИНТЕЗ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БИОСИНТЕЗ ГИСТИДИНА ОСУЩЕСТВЛЯЕТСЯ ИЗ 5-ФОСФОРИБОЗИЛ-1-ПИРОФОСФАТА С ИСПОЛЬЗОВАНИЕМ ФРАГМЕНТА АДЕНИНОВОГО КОЛЬЦА АТФ И АЗОТА ГЛУТАМИН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ФЕНИЛАЛАН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C:\Users\Петр\Desktop\Юля\презентация биохимия\фениланин\200px-L-phenylalanine-3D-sticks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321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Петр\Desktop\Юля\презентация биохимия\фениланин\200px-Phenylalanine.png"/>
          <p:cNvPicPr/>
          <p:nvPr/>
        </p:nvPicPr>
        <p:blipFill>
          <a:blip r:embed="rId2"/>
          <a:stretch/>
        </p:blipFill>
        <p:spPr>
          <a:xfrm>
            <a:off x="4788000" y="2349360"/>
            <a:ext cx="2827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́Н (Α-АМИНО-Β-ФЕНИЛПРОПИОНОВАЯ КИСЛОТА, СОКР.: ФЕН, PHE, F) 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— АРОМАТИЧЕСКАЯ АЛЬФА-АМИНОКИСЛОТА. СУЩЕСТВУЕТ В ДВУХ ОПТИЧЕСКИ ИЗОМЕРНЫХ ФОРМАХ — L И D И В ВИДЕ РАЦЕМАТА (DL). ПО ХИМИЧЕСКОМУ СТРОЕНИЮ СОЕДИНЕНИЕ МОЖНО ПРЕДСТАВИТЬ КАК АМИНОКИСЛОТУ АЛАНИН, В КОТОРОЙ ОДИН ИЗ АТОМОВ ВОДОРОДА ЗАМЕЩЁН ФЕНИЛЬНОЙ ГРУППОЙ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L-ФЕНИЛАЛАНИН ЯВЛЯЕТСЯ ПРОТЕИНОГЕННОЙ АМИНОКИСЛОТОЙ И ВХОДИТ В СОСТАВ БЕЛКОВ ВСЕХ ИЗВЕСТНЫХ ЖИВЫХ ОРГАНИЗМОВ. УЧАСТВУЯ В ГИДРОФОБНЫХ И СТЭКИНГ-ВЗАИМОДЕЙСТВИЯХ, ФЕНИЛАЛАНИН ИГРАЕТ ЗНАЧИТЕЛЬНУЮ РОЛЬ В ФОЛДИНГЕ И СТАБИЛИЗАЦИИ БЕЛКОВЫХ СТРУКТУР, ЯВЛЯЕТСЯ СОСТАВНОЙ ЧАСТЬЮ ФУНКЦИОНАЛЬНЫХ ЦЕНТР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РИ НАСЛЕДСТВЕННОМ ЗАБОЛЕВАНИИ </a:t>
            </a: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КЕТОНУРИИ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ПРЕВРАЩЕНИЕ ФЕНИЛАЛАНИНА В ТИРОЗИН НАРУШЕНО, И В ОРГАНИЗМЕ ПРОИСХОДИТ НАКОПЛЕНИЕ ФЕНИЛАЛАНИНА И ЕГО МЕТАБОЛИТОВ (ФЕНИЛПИРУВАТ, ФЕНИЛЛАКТАТ, ФЕНИЛАЦЕТАТ, ОРТО-ГИДРОКСИФЕНИЛАЦЕТАТ, ФЕНИЛАЦЕТИЛГЛУТАМИН), ИЗБЫТОЧНОЕ  КОТОРЫХ ОТРИЦАТЕЛЬНО СКАЗЫВАЕТСЯ НА РАЗВИТИИ НЕРВНОЙ СИСТЕМЫ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Н В ПРОМЫШЛЕННЫХ МАСШТАБАХ ПОЛУЧАЮТ МИКРОБИОЛОГИЧЕСКИМ СПОСОБОМ. ИСПОЛЬЗУЮТ ФЕНИЛАЛАНИН ДЛЯ СБАЛАНСИРОВАНИЯ КОРМОВ ДЛЯ ЖИВОТНЫХ, КАК КОМПОНЕНТ СПОРТИВНОГО ПИТАНИЯ. ЗНАЧИТЕЛЬНАЯ ЧАСТЬ ФЕНИЛАЛАНИНА ИДЁТ НА ПРОИЗВОДСТВО ДИПЕПТИДА АСПАРТАМА — СИНТЕТИЧЕСКОГО САХАРОЗАМЕНИТЕЛЯ, АКТИВНО ИСПОЛЬЗУЮЩЕГОСЯ В ПИЩЕВОЙ ПРОМЫШЛЕННОСТИ, ЧАЩЕ В ПРОИЗВОДСТВЕ ЖЕВАТЕЛЬНОЙ РЕЗИНКИ И ГАЗИРОВАННЫХ НАПИТКОВ. УПОТРЕБЛЕНИЕ ТАКИХ ПРОДУКТОВ ПРОТИВОПОКАЗАНО ЛИЦАМ, СТРАДАЮЩИМ ФЕНИЛКЕТОНУРИЕЙ.</a:t>
            </a: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ИРОЗ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C:\Users\Петр\Desktop\Юля\презентация биохимия\тирозин\200px-L-tyrosine-skeletal.png"/>
          <p:cNvPicPr/>
          <p:nvPr/>
        </p:nvPicPr>
        <p:blipFill>
          <a:blip r:embed="rId1"/>
          <a:stretch/>
        </p:blipFill>
        <p:spPr>
          <a:xfrm>
            <a:off x="4643280" y="2997360"/>
            <a:ext cx="3249720" cy="26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"/>
          <a:stretch/>
        </p:blipFill>
        <p:spPr>
          <a:xfrm>
            <a:off x="588960" y="2421000"/>
            <a:ext cx="3483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4003f"/>
                </a:solidFill>
                <a:latin typeface="Century Schoolbook"/>
              </a:rPr>
              <a:t>ГЛУТАМИНОВАЯ КИСЛОТА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3" name="Picture 3" descr="C:\Users\User\Desktop\валя\глутамин кислотаа.png"/>
          <p:cNvPicPr/>
          <p:nvPr/>
        </p:nvPicPr>
        <p:blipFill>
          <a:blip r:embed="rId1"/>
          <a:stretch/>
        </p:blipFill>
        <p:spPr>
          <a:xfrm>
            <a:off x="4143240" y="1714680"/>
            <a:ext cx="4000680" cy="350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Users\User\Desktop\валя\глуаминов кислота.png"/>
          <p:cNvPicPr/>
          <p:nvPr/>
        </p:nvPicPr>
        <p:blipFill>
          <a:blip r:embed="rId2"/>
          <a:stretch/>
        </p:blipFill>
        <p:spPr>
          <a:xfrm>
            <a:off x="642960" y="3643200"/>
            <a:ext cx="3143160" cy="20005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2928960" y="578628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кращения  Глу, Glu,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571680" y="2214720"/>
            <a:ext cx="35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олярная масса 147,13 г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ТИРОЗИ́Н (Α-АМИНО-Β-(П-ОКСИФЕНИЛ)ПРОПИОНОВАЯ КИСЛОТА, СОКР.: ТИР, TYR, Y) — АРОМАТИЧЕСКАЯ АЛЬФА-АМИНОКИСЛОТ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УЩЕСТВУЕТ В ДВУХ ОПТИЧЕСКИ ИЗОМЕРНЫХ ФОРМАХ — L И D И В ВИДЕ РАЦЕМАТА (DL). ПО СТРОЕНИЮ СОЕДИНЕНИЕ ОТЛИЧАЕТСЯ ОТ ФЕНИЛАЛАНИНА НАЛИЧИЕМ ФЕНОЛЬНОЙ ГИДРОКСИЛЬНОЙ ГРУППЫ В ПАРА-ПОЛОЖЕНИИ БЕНЗОЛЬНОГО КОЛЬЦА. ИЗВЕСТНЫ МЕНЕЕ ВАЖНЫЕ С БИОЛОГИЧЕСКОЙ ТОЧКИ ЗРЕНИЯ МЕТА- И ОРТО- ИЗОМЕРЫ 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ТИРОЗИН ВХОДИТ В СОСТАВ ФЕРМЕНТОВ, ВО МНОГИХ ИЗ КОТОРЫХ ИМЕННО ТИРОЗИНУ ОТВЕДЕНА КЛЮЧЕВАЯ РОЛЬ В ФЕРМЕНТАТИВНОЙ АКТИВНОСТИ И ЕЁ РЕГУЛЯЦИИ. МЕСТОМ АТАКИ ФОСФОРИЛИРУЮЩИХ ФЕРМЕНТОВ ПРОТЕИНКИНАЗ ЧАСТО ЯВЛЯЕТСЯ ИМЕННО ФЕНОЛЬНЫЙ ГИДРОКСИЛ ОСТАТКОВ ТИРОЗИНА. ОСТАТОК ТИРОЗИНА В СОСТАВЕ БЕЛКОВ МОЖЕТ ПОДВЕРГАТЬСЯ И ДРУГИМ ПОСТТРАНСЛЯЦИОННЫМ МОДИФИКАЦИЯМ. В НЕКОТОРЫХ БЕЛКАХ (РЕЗИЛИН НАСЕКОМЫХ) ПРИСУТСТВУЮТ МОЛЕКУЛЯРНЫЕ СШИВКИ, ВОЗНИКАЮЩИЕ В РЕЗУЛЬТАТЕ ПОСТТРАНСЛЯЦИОННОЙ ОКИСЛИТЕЛЬНОЙ КОНДЕНСАЦИИ ОСТАТКОВ ТИРОЗИНА С ОБРАЗОВАНИЕМ ДИТИРОЗИНА И ТРИ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ОКРАШИВАНИЕ В РЕЗУЛЬТАТЕ КСАНТОПРОТЕИНОВОЙ КАЧЕСТВЕННОЙ РЕАКЦИИ НА БЕЛКИ ОПРЕДЕЛЯЕТСЯ ПРЕИМУЩЕСТВЕННО НИТРОВАНИЕМ ОСТАТКОВ ТИРОЗИНА (НИТРУЮТСЯ ТАКЖЕ ОСТАТКИ ФЕНИЛАЛАНИНА, ТРИПТОФАНА, И ГИСТИДИНА)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ИЗВЕСТНО ТАКЖЕ НЕСКОЛЬКО ОТНОСИТЕЛЬНО РЕДКИХ ЗАБОЛЕВАНИЙ (ТИРОЗИНЕМИИ), ВЫЗВАННЫХ НАРУШЕНИЯМИ ОБМЕНА ТИРОЗИНА. ЛЕЧЕНИЕ ЭТИХ ЗАБОЛЕВАНИЙ, КАК И ФЕНИЛКЕТОНУРИИ — ДИЕТИЧЕСКОЕ ОГРАНИЧЕНИЕ 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БЕЛКА.</a:t>
            </a:r>
            <a:br>
              <a:rPr sz="1600"/>
            </a:b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РИПТОФА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C:\Users\Петр\Desktop\Юля\презентация биохимия\триптофан\200px-L-tryptophan-3D-sticks.png"/>
          <p:cNvPicPr/>
          <p:nvPr/>
        </p:nvPicPr>
        <p:blipFill>
          <a:blip r:embed="rId1"/>
          <a:stretch/>
        </p:blipFill>
        <p:spPr>
          <a:xfrm>
            <a:off x="611280" y="2637000"/>
            <a:ext cx="2868480" cy="331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Петр\Desktop\Юля\презентация биохимия\триптофан\200px-L-tryptophan.png"/>
          <p:cNvPicPr/>
          <p:nvPr/>
        </p:nvPicPr>
        <p:blipFill>
          <a:blip r:embed="rId2"/>
          <a:stretch/>
        </p:blipFill>
        <p:spPr>
          <a:xfrm>
            <a:off x="4716360" y="2637000"/>
            <a:ext cx="2814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ТРИПТОФА́Н —— (Β-ИНДОЛИЛАМИНОПРОПИОНОВАЯ, ИЛИ Α-2-АМИНО-3-(1H-ИНДОЛ-3-ИЛ)ПРОПИОНОВАЯ КИСЛОТА, СОКР.: ТРИ, ТРП, TRP, W) — </a:t>
            </a: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АРОМАТИЧЕСКАЯ АЛЬФА-АМИНОКИСЛОТА. СУЩЕСТВУЕТ В ДВУХ ОПТИЧЕСКИ ИЗОМЕРНЫХ ФОРМАХ — L И D И В ВИДЕ РАЦЕМАТА (DL).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L-ТРИПТОФАН ЯВЛЯЕТСЯ ПРОТЕИНОГЕННОЙ АМИНОКИСЛОТОЙ И ВХОДИТ В СОСТАВ БЕЛКОВ ВСЕХ ИЗВЕСТНЫХ ЖИВЫХ ОРГАНИЗМОВ. ОТНОСИТСЯ К РЯДУ ГИДРОФОБНЫХ АМИНОКИСЛОТ, ПОСКОЛЬКУ СОДЕРЖИТ АРОМАТИЧЕСКОЕ ЯДРО ИНДОЛА. УЧАСТВУЕТ В ГИДРОФОБНЫХ И СТЭКИНГ-ВЗАИМОДЕЙСТВИ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БИОСИНТЕЗ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В ПРИРОДЕ ТРИПТОФАН СИНТЕЗИРУЮТ МИКРООРГАНИЗМЫ, РАСТЕНИЯ И ГРИБЫ. МНОГОКЛЕТОЧНЫЕ ЖИВОТНЫЕ НЕ СПОСОБНЫ СИНТЕЗИРОВАТЬ ТРИПТОФАН DE NOVO. ДЛЯ ЧЕЛОВЕКА, КАК И ДЛЯ ВСЕХ METAZOA, ТРИПТОФАН ЯВЛЯЕТСЯ НЕЗАМЕНИМОЙ АМИНОКИСЛОТОЙ И ДОЛЖЕН ПОСТУПАТЬ В ОРГАНИЗМ В ДОСТАТОЧНОМ КОЛИЧЕСТВЕ С БЕЛКАМИ ПИЩИ.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99680" y="214200"/>
            <a:ext cx="7829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(2-аминопентандиовая кислота)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— алифатическая аминокислот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также является нейромедиаторной аминокислотой, одним из важных представителей класса «возбуждающих аминокислот». Связывание глутамата со специфическими рецепторами нейронов приводит к возбуждению последних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относится к условно незаменимым аминокислотам. Глутамат в норме синтезируется организмом. Присутствие в пище свободного глутамата придает ей так называемый «мясной» вкус, для чего глутамат используют как усилитель вкуса. При этом метаболизм природного глутамата и глутамата натрия синтетического, не отличаютс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Является одним из компонентов миофибрилл, участвует в синтезе других аминокислот, ацетилхолина, АТФ, мочевины, способствует переносу и поддержанию необходимой концентрации ионов калия в мозге, служит связующим звеном между обменом углеводов и нуклеиновых кислот, нормализует содержание показателей гликолиза в крови и тканях. Оказывает гепатопротекторное действие, угнетает секреторную функцию желуд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5995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005f"/>
                </a:solidFill>
                <a:latin typeface="Century Schoolbook"/>
              </a:rPr>
              <a:t>ГЛУТАМИН</a:t>
            </a:r>
            <a:endParaRPr b="0" lang="en-US" sz="6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61" name="Picture 1" descr="C:\Users\User\Desktop\валя\глутаимн.png"/>
          <p:cNvPicPr/>
          <p:nvPr/>
        </p:nvPicPr>
        <p:blipFill>
          <a:blip r:embed="rId1"/>
          <a:stretch/>
        </p:blipFill>
        <p:spPr>
          <a:xfrm>
            <a:off x="5286240" y="2428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357120" y="1643040"/>
            <a:ext cx="48578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е считается незаменимой аминокислотой, так как организм способен сам воспроизводить его. Тем не менее, глутамин может быть единственная важнейшая аминокислота, которая поддерживает анаболические процессы в мышцах и защищает организм от разрушительного влияния перетренированности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571680" y="3214800"/>
            <a:ext cx="45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тамин служит межорганным транспортером азота в организме. Примерно 1/3 всего азота транспортируется в крови в виде глутамина17. Большая часть азота, потребляемого мышцами, используется в мышечных клетках для синтеза глутамина, который является нетоксичным переносчиком аммония из периферических тканей к внутренним органам.  Глутамин – главный субстрат для синтеза мочевины в печени и аммониогенеза в поч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азано, что быстроделящиеся клетки, в том числе клет­ки слизистой оболочки кишки, поджелудочной железы, легочных альвеол и клетки иммунной системы, используют глутамин для энергетических и пластических нужд. Глутамин – главный источник энергии для клеток желудочно-кишечного 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ле длительного голодания, после хирургических вмешательств, ожогов, инфекций, панкреатита и при других критических состояниях внутримышечная концентрация глутамина снижается (в 2 раза и более), независимо от проведения стандартной нутриционной терап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нкая кишка – главный орган, потребляющий глутамин. При стрессе, использование глутамина кишкой возрастает, что усиливает его дефицит. Сегодня доказано, что глутамин – абсолютно необходимый субстрат для поддержания структуры и функции кишки 6,10, особенно при состояниях, когда происходит повреждение слизистой оболочки кишки, ухудшение барьерной функции и, следовательно, увеличение степени транслокации бактерий и токсинов в кровото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56390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5698"/>
                </a:solidFill>
                <a:latin typeface="Century Schoolbook"/>
              </a:rPr>
              <a:t>ЛИЗИН</a:t>
            </a:r>
            <a:endParaRPr b="0" lang="en-US" sz="59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532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незаменимая аминокислота. Лизин входит в состав практически всех белков, необходим организму человека для нормального роста, производства гормонов, антител, ферментов, а также для восстановления ткан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а аминокислота оказывает противовирусное действие, особенно в отношении вирусов, вызывающих острые респираторные инфекции. Рекомендуется сочетать лизин с витамином С при вирусных заболеваниях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Соединенных Штатах Америки и некоторых странах Европы для профилактики часто рецидивирующих форм генитального герпеса применяются биологически активные добавки к пище на основе лизина. Несколько десятилетий назад было замечено, что у некоторых людей, страдающих от герпеса, но соблюдавших определенную диету, рецидивы бывают реж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Users\User\Desktop\валя\leafandlysite.jpg"/>
          <p:cNvPicPr/>
          <p:nvPr/>
        </p:nvPicPr>
        <p:blipFill>
          <a:blip r:embed="rId1"/>
          <a:stretch/>
        </p:blipFill>
        <p:spPr>
          <a:xfrm>
            <a:off x="5857920" y="214200"/>
            <a:ext cx="2928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56760"/>
            <a:ext cx="80438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- это мощный источник энергии, так как он ускоряет процесс расщепления жиров, являющихся эффективным «топливом» для организма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длительном потреблении лизин не накапливается и не оказывает токсического воздействия на организм человека. Излишки выводятся почками с моч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ые эксперименты показали, что при длительном применении лизин обладает мягким антидепрессантным эффектом, также на фоне приёма лизина у некоторых людей прошли мучающие их головные боли, мигрени. Лизин не вызывает сонливости, снижения концентрации внимания и работоспособности, психической или физической зависимости. После приёма лизина вы можете спокойно водить автомоби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отив же, недостаток лизина в рационе питания может быть причиной повышенной утомляемости, тошноты, головокружения, вялости, пониженного аппетита, нервозности, появление сосудов на белочной оболочки глаза (симптом "красных глаз"), менструальной дисфункции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в сочетании с пролином и витамином С предупреждает образование липопротеинов, вызывающих закупорку артерий, следовательно, будет полезен при сердечно-сосудистых патологиях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улучшает усвоение кальция из крови и транспорт его в костную ткань, поэтому он может быть неотъемлемой частью программы лечения и профилактики остеопороз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58:54Z</dcterms:created>
  <dc:creator>User</dc:creator>
  <dc:description/>
  <dc:language>en-US</dc:language>
  <cp:lastModifiedBy>Admin</cp:lastModifiedBy>
  <dcterms:modified xsi:type="dcterms:W3CDTF">2012-02-03T13:56:20Z</dcterms:modified>
  <cp:revision>15</cp:revision>
  <dc:subject/>
  <dc:title>Аминокислоты</dc:title>
</cp:coreProperties>
</file>